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F79-957B-4F89-A2AD-3277DB40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A2B-F28C-4CC2-85ED-86E8D94A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D71-5117-454A-90A0-BA189A93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019-D005-442C-9813-0BB6FC9B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083-1203-4FB4-AB52-42875FB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722-55C6-48C6-8A5A-F3F0686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BFA-3899-4E1C-A457-EB5F3832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356-A82D-4FD8-AD4E-2D214C85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C4E-A43D-4DEB-9FE3-7D401DD6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2FA-18CB-4D04-B5D7-A347ECA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8D8-AACA-41A2-AE1B-AE84763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901-3F7A-43A9-9676-C58BFCDD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4EE5-CE12-4257-8EC5-21FF7245A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Conquistadors and Pre-Columbian Civizal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By: Michael Donne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640440" y="578520"/>
            <a:ext cx="914400" cy="1738440"/>
          </a:xfrm>
          <a:prstGeom prst="downArrow">
            <a:avLst>
              <a:gd name="adj1" fmla="val 50000"/>
              <a:gd name="adj2" fmla="val 47530"/>
            </a:avLst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536000">
            <a:off x="7253280" y="761760"/>
            <a:ext cx="1890720" cy="942840"/>
          </a:xfrm>
          <a:prstGeom prst="rightArrow">
            <a:avLst>
              <a:gd name="adj1" fmla="val 50000"/>
              <a:gd name="adj2" fmla="val 50134"/>
            </a:avLst>
          </a:prstGeom>
          <a:solidFill>
            <a:srgbClr val="ff00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1071000">
            <a:off x="7315200" y="35049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20647800">
            <a:off x="-151920" y="327636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1080" y="0"/>
            <a:ext cx="5486400" cy="21337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19520" y="304920"/>
            <a:ext cx="3657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an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5000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808080"/>
                </a:solidFill>
                <a:uFillTx/>
                <a:latin typeface="Arial"/>
              </a:rPr>
              <a:t>STANDAR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000000"/>
                </a:solidFill>
                <a:uFillTx/>
                <a:latin typeface="Arial"/>
              </a:rPr>
              <a:t>Azte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lived in Central Me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nochtitlan was  their capital c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built the capital in the middle of a l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ir ruler was called Montez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y were Polytheistic, believed in many gods. Human sacrifice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cuip.lib.uchicago.edu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11480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858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205740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ffff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  <p:sndAc>
      <p:stSnd>
        <p:snd r:embed="rId2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MAY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23320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ved on the “Yucatan Peninsul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ny major cities which makes them tougher to conqu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d slaves, that could sometimes earn their freedom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d not have a lot of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lytheistic (believed in many g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338640"/>
            <a:ext cx="4610160" cy="35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ffff00"/>
                </a:solidFill>
                <a:uFillTx/>
                <a:latin typeface="Arial"/>
              </a:rPr>
              <a:t>Inc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They lived in Peru, Andes Mts., located in South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Arial"/>
              </a:rPr>
              <a:t>Polytheistic (belief in many gods)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No written language (used kno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Sacrificed lamas. very impor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When Spanish arrived they were having a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-397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ss.fullerton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1809720"/>
            <a:ext cx="4000680" cy="5048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Corte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ptured Aztec capital with 500 men and 16 horses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native groups helped in cap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anish were driven away but in 1521 they captured all the Aztecs and kille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ztecs believed he was Quetza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ight skinned god who had dis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a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tez is one of the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84796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429000" y="6279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.wikipedia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5181480"/>
            <a:ext cx="2338560" cy="121932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Pizarr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idnapped Atahualpa and held him for a ransom of gold and sil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tured Incas and called the land “New Spanish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d 180 men and 27 horses into P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e during time Incas were having a civil war for who would be the head Inca. (A civil war is one more than one group in the same country is fighting each oth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5334120"/>
            <a:ext cx="1342800" cy="13129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0.93334 -0.01111 E">
                                      <p:cBhvr>
                                        <p:cTn id="5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What they di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 huge portion of the Central and South America speaks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ly any Aztec,Maya,and Inca tradi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 majority of the people are Christ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ed Aztec capital and founded Mexico City on top of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3352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4680" y="4572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5105520"/>
            <a:ext cx="6172200" cy="175248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43200" y="762120"/>
            <a:ext cx="640080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7:52Z</dcterms:created>
  <dc:creator>jklib</dc:creator>
  <dc:description/>
  <dc:language>en-US</dc:language>
  <cp:lastModifiedBy>h</cp:lastModifiedBy>
  <dcterms:modified xsi:type="dcterms:W3CDTF">2011-11-29T16:14:52Z</dcterms:modified>
  <cp:revision>19</cp:revision>
  <dc:subject/>
  <dc:title>Conquistadors and Pre-Columbian Civizaltion</dc:title>
</cp:coreProperties>
</file>